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0C09-F7E5-47CA-9E4D-89F767C1E3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AD6A-3C62-48C3-A5AB-8D4ED324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0AD0D8-F041-4E00-BD8F-293FBF59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B3A94E-E599-41FF-A863-C4BC7C13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2D95A3-B69B-4F77-9A92-21B00EEF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1FA7E5-7EF2-4EB2-A421-AA1CEDBA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11BF53-5193-476A-B22E-8B7C2B70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77633D-A3CC-41FB-B9C5-0AAC95CB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A8DAA6-AC8E-4301-B8BF-DE7A90C0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134004-3C84-4342-84D4-8DF8F85C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88AA19-58F4-4A36-B4D4-A8AAAD1B6A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D0A7-11A5-431B-B288-60A3BF0467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42E8-7B39-4C24-A020-A4E5C2F2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2CA6F-9B97-4348-AC2F-C7D4FC65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0D73F-FFF8-4EE5-9186-3E7555D6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FBF74-B32A-4FC8-ABEE-9D1D64C6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7FC4F-597C-4C85-9B1C-1A447825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828EE-DF80-46B7-B758-F2646A62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3F00-A0C7-4138-81C7-59437CB2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14526-E1DC-412C-89CC-6309533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90E1B-3184-4188-8A15-99340DBC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1500-BCEC-4193-9A0B-75A95D5D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2FB96-BBFF-4820-95A9-BC3E8C40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B5EE-F144-4966-8FDB-B447B1E17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C209-B311-4289-ADED-F61BBA31F4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0BB04F-0857-4FC1-A4BB-297B40E0C9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744367-6176-4B14-A304-978F116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1F16EA-81BF-46E7-882E-62625D33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729DE9-CB7F-42C5-BD2C-B7056A91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ACEEB1-64A1-49CC-AB3F-6859D701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60C03-0C11-4C16-9E2C-59589273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2B2B7-8EB4-441D-9B4B-16AC9DA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E7F459-094A-4316-8BD5-984180F2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0C76E8-889E-4E61-8FB7-3C46D248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D5A8A-3A51-4A69-B7E8-FF282AD7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2AFC34-A4BC-4880-B45D-30BCB30B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081BA-2CBF-4ADB-86B8-42F547B8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D66A11-F33A-49A4-9849-9910801EB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FD545-28BC-409C-B64B-8F7A37C6D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5BF88-68CC-4554-940C-7C15EA45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50FDC-3F18-48B0-95A9-20BAFC87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1F60E-8635-4277-AF3A-368C634D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93821-3B3A-4806-BE64-64F9F9B5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026D8-F2DF-4FA9-9F52-316E1D14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5F4A3-D881-4FD0-9D4B-61943970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50780-693C-4792-A635-A5062FC7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B9DC6-E83E-4BD4-B081-791831B1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153EB-BBB7-4B13-8981-0F27CBFC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20F3F-12F9-4CE9-8F5F-987EF96F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4D8BB-08BD-41B5-A15E-E42ABCCB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5B411-07FC-43C0-9CDC-C3446678E6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90F19-8756-4023-B7F4-A5CD50A515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2C688-2FFD-4F67-AE21-9CD724D7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7DDCB-1710-4980-A36B-34F5FBF6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64D04-CFF9-423D-9F9C-50D05AB2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FE3C7-4CD0-40D2-AD26-651928F4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4D499-9884-412D-AE46-2E9CBE43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44480-8A38-4478-9523-13F9E1D7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DF9C7-426B-4C86-ACE4-3085DFF9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F49CF-C038-4CA9-B86A-8A76B75D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8132C-98C4-4A66-B174-F2508950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73E52-B97F-40D6-AF2B-48B85B0B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40561-B8D6-4919-A9B9-E02F553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C874E-58CA-4B1A-80A9-408CEA441A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E7B4D-E39B-4AF6-AE82-7BF7F5EB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8FB58-B79C-45B9-A800-F9BEFC1C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B90C2-EFD3-4022-9BCD-A4AB0F60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5F2B4-3781-44D2-BC79-54F1E93D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2BF94-1AEE-4585-B371-0796ACE8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A466D-1B2F-4AC8-8F81-0014CBF0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79DAE-B950-4EEA-9F95-B436E620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FEB7A-BD92-4737-9DC5-054EB3EF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0A9C7-C529-4B24-98FB-20174AD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8ABE9-5051-41FB-877B-AB5D3021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D1F78-94E0-4B9E-B3A2-7364B069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869FD-7B0A-4E31-8CD2-32B6C2A6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99BCB-BB7E-43C6-BB1D-44487F72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40C99-F451-4A91-AD8C-2B184FDE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6959C-A047-4B34-B6F1-39327136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00163-6EA1-45DA-B889-2675B0CD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1DC42-2D0D-45DB-BF4E-87F64F84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35D73-8968-4EED-B78A-69D85353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DFF83-D403-417C-87BB-508EDCAC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7EB95-4688-4A32-B16C-28E7EBF4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D82CF-016B-4A76-B8B1-73FFEB47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11F01-4432-4AC5-A302-12C8723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6F16D-F4B5-49C9-B494-2AF883E4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FA7F6-4941-4E8E-BDF3-9DE8CF2F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6A5CB-35F4-4AB4-8539-3A4C399F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21518-FF65-4F3A-B606-2BA87765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6DB39-ED44-45A2-8EF1-0B6E9CF3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196FB-F348-4365-9CA8-D46B0110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143D2-B9CB-4406-AFF9-C6782C6E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1887C-2C23-43F8-A1CD-AFAED788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17BEE-4F54-4C7E-B16C-145483A4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13ABA-285E-45B0-8A8A-B45F8E73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DC3D3-A6A9-464B-8898-2D24CFDB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417F4-D85C-4C4A-8F81-014B1122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E4146-0AB6-48E5-B9FE-4D026EDD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CB958-94F5-44C3-9393-E67C3DDB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ED7EC-89EA-42EB-B996-E6DA914F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3886B-871B-4823-A29C-76B907E7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66C28-D035-4A06-9744-D014E563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C4F7B-E70D-4266-978D-14EEECFA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563EF-AF5C-42B8-B442-88DA7A1C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26948-6CED-4B06-8029-E60FBB9C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940F6-6C39-4F10-A6A8-82F9138B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31EBB-9390-47C3-9F92-D6D703D0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86123-E66C-4504-BD65-ED96287C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CD9E4-888A-40B6-B497-20A0C06F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3CC74-5934-4C53-B2B9-5D5FFA0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034C-CC67-42CD-9EE5-E61BC656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8D253-C795-4826-B6D8-7B6BF00A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60CA5-7CEE-4C2C-A841-1877CB7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AF1FC-F574-484F-8D36-B39627A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ECA1C-CA79-4B32-A4B1-8655A4AB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7EC13-F519-4194-B24C-E1E83F31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196C5-F72E-4956-98B5-5873D335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EF17B-8F42-4E8D-8E3D-8D3662FD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FCD09-9EDA-4325-963A-D5B4F77C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726FE-1274-4023-9A6A-3CE2A318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E76CB-685F-4A63-A063-5F25BCE9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1E99F-0BCF-4B2C-ACA0-541F227D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D53D8-A226-4A32-A197-72563393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248CF-7049-402D-9209-E68E7650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5CEC9-B23E-47D8-8021-B341E8F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EED9E-98BF-457B-B534-D3B573E3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755AE-9123-4FDD-8B2D-9E0A408F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8F716-2F95-44DF-B0DA-6B04363A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785DE-3AD5-49ED-8744-11F1BE4C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A14A2-5DB8-4816-86DF-C9D0696E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3F699-8E51-4E2E-881A-A3727B53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FA019-21A2-4491-831A-D3F47507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AC4D8-6D52-4A09-AE49-F86B908F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44661-5F11-4961-AD91-9F01312D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8CC9D-6A92-4308-9B67-13E5A68D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0B714-2757-43EF-B06A-840E88A3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0DBC0-E31E-4213-B40E-A93F9616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733DB-8EE8-47E8-BE46-425D0117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0835D4-1488-4533-8A39-22FA7C19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46D46-B583-4E01-8DE4-97CB5399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2C0AD-6632-4F95-A61B-2FA9CB8B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93DB6-96E2-4DAA-B4B1-6CE28F8E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D684E-9065-4F4B-899B-2BF1869F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B1541-C7E3-4114-A0D5-DF74C016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6CF7B-1E99-42FF-9647-A9EA92B4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37BC1-8C74-415D-8672-C4267D4E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F666B-9F69-4F76-B6B9-2232086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1CFBF-EE17-46F5-8EF6-B6035842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1FDB3-9187-428F-852A-00C4D83B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724BB-813D-410B-9963-8EAD1980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AD205-D4B5-4C51-B4CB-24741EA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6ED09-1D67-4114-BB68-03C0C0E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DD340-6C16-4865-B370-38C22C93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D9234-C9E9-4F80-8FD5-5B30031B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09B2F-DA68-4535-BED1-CB09C852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3270B-3A91-4834-B8C5-1605F5DA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BD4B4-8A93-4928-A9C3-58C1D458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C51CD-6641-4687-8E96-D7EB4131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36151-2D1C-4D08-A681-33996452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C4295-70C6-4525-A6B6-A3F89A02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DCFF1-0E84-40E7-B605-BFFB1894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799FA-03B1-4520-97A0-F1A9B5F5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350CB-2E9B-442C-9A25-48C21394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C2960-858B-47D3-9C5B-D1BA763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1EF4F-BA9D-4E43-83E0-F562A398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7B9C5-1312-413C-8A47-0C7DBD87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A76B7A-7B85-43A7-9819-D3535D45F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74E28-083E-45DC-926B-39B62659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B73E7-BF3E-4D20-B6A4-4AB8AC56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B02F9-8B5E-4501-A62F-6778DB3B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EE0B2-60A1-46D7-827E-E2F8AA22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01B9B3-EA86-4C81-97F0-8998A72F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ACE083-60DA-4190-9600-908E496B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E9EA6C-01EB-43C9-B1C4-EACF646A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B47E93-AA29-407A-87BC-67A53DD8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7F18A-189F-4271-A94D-67A5E6A0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7CBB5-785E-4E0E-8420-7BB0E393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E3ACE-FB55-46CF-89FD-BBC8A59A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B89A75-681B-428B-9268-8230E51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8B3C3-C655-4997-B0CF-640F471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36137-2BD3-4AFF-90ED-EDC17CFB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FFEBD-6F3C-4B16-934B-6A5EA077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BD37F-20E5-4E74-804D-3FE9C159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781B1-717F-43FA-96B8-D4BD61C4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56244-E13E-4905-83D7-EC766E0E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24E66-82FD-423F-B47F-3B6A4129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B1102-2BDB-4EFA-A60B-583F0C23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F2DD0D-13EF-43A5-AF87-550AFDE0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E55A8-60B6-4386-BA25-4949D6D9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D185C-CF04-4FE7-9A5D-04D6B13C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A3E96-845D-498C-8FDC-9978657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99EC1-D7B1-4484-81A6-C459EED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9B4B38-B42A-47B1-B516-BA34A511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54708F-28D9-44EC-B2D9-71270090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1622BE-BF1D-4726-9F39-73292109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875DF5-620F-4C6F-848E-FAAE74CC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9DD73-898B-4E2F-8DEC-4C1D1548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D75281-6E14-4F55-A4F2-C7A129CF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CF24D9-E21B-4304-B7D2-9D2AB2AE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1064A-1A02-4047-A574-A41B5753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988C8-0E6C-404E-BE03-D993792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94378-0E0C-4AED-92B0-3A4DACE1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2C8ED-12CD-431B-A506-50D90051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75DFA-FB4C-4385-9561-C1051D9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1B5A82-C68C-4B40-8860-6221F114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1EF38-3AE9-4970-90BD-0ED02F11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BE391-8B7A-4D0A-9CEF-77034E1E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419CD6-1E1A-4C69-B833-CC7B4C9F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50110-2BF7-4C69-B2D6-1CF88D11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55D43-1C38-4C2A-AABC-59C4BE62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6BFF-8F17-4FEE-95FB-BA7176B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B5D73D-12D2-42A5-9187-4FAD425A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55CCC-38D2-478C-8747-F32F89DA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8A6C5-BCB4-4BF9-B095-59BB73A8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E6275-EBE7-4BB8-BEAF-65B4AE10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64D0A-91C8-48C2-A6EC-ADA288F1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BAC2E-BCD2-4D8C-A665-CD7270B5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41D18-8D42-4D6F-8FEF-514F60D374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B07A-0970-4C7E-BA6B-B40B3325D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4B595-32AD-4754-97BD-80A47186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5E0D6-3457-4EE2-BD52-C46209C4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8DBE-8A4F-4DD1-B778-D523C714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5A04-CC71-415B-9CB2-848C465D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1BDE-7974-41BF-BE0B-C4A61D28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246A-92D0-45AA-86FC-C109A438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7934-E08F-4A07-8662-C4A928D9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E34B-532C-48F0-BE37-47295A44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EEB8-9347-430F-963B-DC4006A5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9DC6-209C-465E-8295-D2FEE561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775A-5B75-4847-91B5-1117FA19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9F4A-3172-4A3F-AC2E-370DB1934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EA3908-F5DC-47AB-A89C-04886BAF6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5F5D-E074-4ED7-9D19-E9CB40F0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BF197-AC76-40EE-A54A-58DCC36D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6BE63-1548-4893-91EA-2F4429B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65680-8A9A-47A7-876A-FA1BAACA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B9E35-A0F4-4F70-925B-631DAD8B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EA58A-042B-4AF9-BEA5-07E93B31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E30BD-7C36-4ACB-B858-ED09E5D0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52D72-21B2-4648-97EB-9E506EAF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C5A6D-AF7C-4B6D-B9C2-C71163E5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2957B-A43A-4F7E-A154-DDB7AEEA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0D1E3-0AD8-46C4-9452-ACE4FC92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E745-C48B-404A-B972-D7C78396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FB893-911C-45FB-B4FB-3B3FEA1616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8EBFA2-C5D8-48FC-A591-2C7434FC99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4AED98-7E54-4BC9-A746-203B7B11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FC9516-99FC-4A8E-AAE9-4646CC42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B1366-CFF4-4D22-ADAC-924A8C76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E3799D-9578-4F43-848D-68D67C38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FF10DA-C35B-4390-8D10-8915EACC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6C5EA3-5AAB-4703-B8BC-CD741D89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B75FDE-E73C-4A16-BD0B-49B9772C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397333-AC3C-4001-AF8B-E2EE18D5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D87D-8AF8-4A88-813E-65029433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0CC6FD-A74A-4E1C-9E16-F1CD0269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DE9DE6-7218-4855-AFEB-2E9D9DD3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8C48DD-93BB-495D-9FC9-DB791E892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B295-6531-4E83-8528-2B485E4CE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35AFD-2802-45D7-948B-69A53386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0BEF-8A0E-4CC8-81F2-E007A30E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9D67F-9559-473A-B7D1-2143D3CB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9161A-8945-42F1-BFBF-12ACC824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BB86A-2CA2-4517-8AEF-57B2328B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2887C-A8F2-4472-A02F-D9D25629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A87C-2293-4612-83ED-212171EA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AE7C-D1B4-45EE-AB92-1AABC86B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3EADE-FFF2-4853-9381-B7F02664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0E41F-0BD5-4AA3-9FC7-1768E63E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6DEFC-3911-48F2-A3F5-DAF713C3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4097F-46C1-42F5-9C7E-2DCF5E765B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83826-6291-4507-B6A3-BE2815343A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66AA8-6B97-4C2A-AD14-97202E48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0E8A1-52E8-4C06-B949-614E7CD2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703C5-BF4D-4CE0-A30E-92332D9A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427FC-A2BC-458B-AE50-CAA6E9AB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9B4A-650D-48AF-9E1D-9276B461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085C6-1DF8-4726-89DC-5444455D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A0CD8-4FBF-43FC-8E97-ACEF7005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E541B-5CEA-4FBE-B3C9-31843D97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0BBBE-B871-4AC7-912A-439AEBE9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27357-D263-4687-B1C2-C69F046D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8C69B-843B-432C-8A0F-4E0B898D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7D753-95A6-48C6-A120-EED1D33622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00D585-A668-4607-AEE3-19E843DB94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122176-8C0A-45CF-9F90-8A95DD5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929494-8A1A-4585-925E-5E68636C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67AA-379D-46F7-BFD3-3E2A6B2C09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EDEE-BD8B-4ED5-A0DB-21B3022A4A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1A01-5488-4653-888A-20BFFE6D18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D057-F344-4DBD-A451-F6194D090B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3933-68B0-4A96-A539-29CD7E22875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64E4-6DB5-45BD-AA69-5C7F7384C26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37B4-7F8E-45F6-81AB-041055D9D20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8A47-BDF6-4417-86E1-E301AFE67E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BB81-3E99-4E1A-9335-E280D1C662E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C8EF-5175-4F4D-AE15-FD95D61C297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C00E-84BD-40C5-8CCC-2679ECAE577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1CE9-2A11-4077-927A-B59B71C33A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8288-F216-45F9-A2BC-078E0153CD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B208-7F70-4E6B-8601-F698687832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06F2-59A7-4E18-8EFF-4C0CD25A79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52DE-2AFB-4EEC-9464-DCB7175971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6E75-81B0-4C1C-BC79-F74FA3FC28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E8D7-79EC-4C23-ABF3-BD6C6743A7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8B1C-EE7D-44CC-86B6-7439924C36F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1093-2B6F-4415-B387-D9038BBDA4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A68C-0730-4F51-8CD4-BD99EB460D7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85D5-6BE7-4CEF-93A0-DAFE003736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5051-2DE9-4992-83E0-3FFC527390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B084-0CB8-433E-9CE7-99F906DF7B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20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868480" y="270360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2327400" y="2652840"/>
            <a:ext cx="604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</a:t>
            </a: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吨 的 认 识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3449520" cy="360"/>
            <a:chOff x="2284560" y="2448000"/>
            <a:chExt cx="3449520" cy="36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34495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344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231840" y="174456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 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组合 22"/>
          <p:cNvGrpSpPr/>
          <p:nvPr/>
        </p:nvGrpSpPr>
        <p:grpSpPr>
          <a:xfrm>
            <a:off x="4602240" y="1317600"/>
            <a:ext cx="4141800" cy="3361680"/>
            <a:chOff x="4602240" y="1317600"/>
            <a:chExt cx="4141800" cy="3361680"/>
          </a:xfrm>
        </p:grpSpPr>
        <p:sp>
          <p:nvSpPr>
            <p:cNvPr id="1155" name="Text Box 7"/>
            <p:cNvSpPr/>
            <p:nvPr/>
          </p:nvSpPr>
          <p:spPr>
            <a:xfrm>
              <a:off x="4602240" y="3823560"/>
              <a:ext cx="41418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辆卡车载质量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吨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也就是（      ）千克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6" name="Picture 3" descr="D:\我的文档-桌面-收藏夹\桌面\1295091_102826171039_2副本.jpg"/>
            <p:cNvPicPr/>
            <p:nvPr/>
          </p:nvPicPr>
          <p:blipFill>
            <a:blip r:embed="rId1"/>
            <a:stretch/>
          </p:blipFill>
          <p:spPr>
            <a:xfrm>
              <a:off x="4743720" y="1317600"/>
              <a:ext cx="3161880" cy="224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7" name="Picture 2" descr="D:\我的文档-桌面-收藏夹\桌面\大象.jpg"/>
          <p:cNvPicPr/>
          <p:nvPr/>
        </p:nvPicPr>
        <p:blipFill>
          <a:blip r:embed="rId2"/>
          <a:stretch/>
        </p:blipFill>
        <p:spPr>
          <a:xfrm>
            <a:off x="1735200" y="1317600"/>
            <a:ext cx="2027160" cy="2656080"/>
          </a:xfrm>
          <a:prstGeom prst="rect">
            <a:avLst/>
          </a:prstGeom>
          <a:ln w="0">
            <a:noFill/>
          </a:ln>
        </p:spPr>
      </p:pic>
      <p:sp>
        <p:nvSpPr>
          <p:cNvPr id="1158" name="Text Box 6"/>
          <p:cNvSpPr/>
          <p:nvPr/>
        </p:nvSpPr>
        <p:spPr>
          <a:xfrm>
            <a:off x="425520" y="3973680"/>
            <a:ext cx="357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只大象重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60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千克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也就是（      ）吨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8"/>
          <p:cNvSpPr/>
          <p:nvPr/>
        </p:nvSpPr>
        <p:spPr>
          <a:xfrm>
            <a:off x="1801800" y="4354560"/>
            <a:ext cx="81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9"/>
          <p:cNvSpPr/>
          <p:nvPr/>
        </p:nvSpPr>
        <p:spPr>
          <a:xfrm>
            <a:off x="6010200" y="420516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5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2" name="圆角矩形 2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64" name="椭圆 15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椭圆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2" name="文本框 1"/>
          <p:cNvSpPr/>
          <p:nvPr/>
        </p:nvSpPr>
        <p:spPr>
          <a:xfrm>
            <a:off x="149400" y="939960"/>
            <a:ext cx="534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组合 2"/>
          <p:cNvGrpSpPr/>
          <p:nvPr/>
        </p:nvGrpSpPr>
        <p:grpSpPr>
          <a:xfrm>
            <a:off x="11160" y="79200"/>
            <a:ext cx="3244680" cy="525600"/>
            <a:chOff x="11160" y="79200"/>
            <a:chExt cx="3244680" cy="525600"/>
          </a:xfrm>
        </p:grpSpPr>
        <p:pic>
          <p:nvPicPr>
            <p:cNvPr id="1174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61640" y="792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5" name="组合 4"/>
            <p:cNvGrpSpPr/>
            <p:nvPr/>
          </p:nvGrpSpPr>
          <p:grpSpPr>
            <a:xfrm>
              <a:off x="11160" y="174960"/>
              <a:ext cx="429840" cy="271800"/>
              <a:chOff x="11160" y="174960"/>
              <a:chExt cx="429840" cy="271800"/>
            </a:xfrm>
          </p:grpSpPr>
          <p:sp>
            <p:nvSpPr>
              <p:cNvPr id="1176" name="椭圆 15"/>
              <p:cNvSpPr/>
              <p:nvPr/>
            </p:nvSpPr>
            <p:spPr>
              <a:xfrm rot="16200000">
                <a:off x="254160" y="337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7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320" y="3013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8" name="椭圆 29"/>
              <p:cNvSpPr/>
              <p:nvPr/>
            </p:nvSpPr>
            <p:spPr>
              <a:xfrm rot="16200000">
                <a:off x="254160" y="211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9320" y="1893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3175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894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02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1749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4" name="文本框 99"/>
          <p:cNvSpPr/>
          <p:nvPr/>
        </p:nvSpPr>
        <p:spPr>
          <a:xfrm>
            <a:off x="289080" y="963720"/>
            <a:ext cx="81579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比千克大的质量单位是（　　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质量单位按从小到大的顺序是（　　　）、（　　　）、（　　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年级一班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同学的体重之和大约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，        也就是（　　  ）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1"/>
          <p:cNvSpPr/>
          <p:nvPr/>
        </p:nvSpPr>
        <p:spPr>
          <a:xfrm>
            <a:off x="4775040" y="1685880"/>
            <a:ext cx="6033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文本框 3"/>
          <p:cNvSpPr/>
          <p:nvPr/>
        </p:nvSpPr>
        <p:spPr>
          <a:xfrm>
            <a:off x="7053120" y="2340000"/>
            <a:ext cx="6051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4"/>
          <p:cNvSpPr/>
          <p:nvPr/>
        </p:nvSpPr>
        <p:spPr>
          <a:xfrm>
            <a:off x="843120" y="2994120"/>
            <a:ext cx="9586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文本框 5"/>
          <p:cNvSpPr/>
          <p:nvPr/>
        </p:nvSpPr>
        <p:spPr>
          <a:xfrm>
            <a:off x="3092400" y="2994120"/>
            <a:ext cx="6033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6"/>
          <p:cNvSpPr/>
          <p:nvPr/>
        </p:nvSpPr>
        <p:spPr>
          <a:xfrm>
            <a:off x="1801800" y="4257720"/>
            <a:ext cx="11174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1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93" name="椭圆 15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4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1" name="文本框 99"/>
          <p:cNvSpPr/>
          <p:nvPr/>
        </p:nvSpPr>
        <p:spPr>
          <a:xfrm>
            <a:off x="360360" y="922320"/>
            <a:ext cx="8423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在（  ）里填上合适的重量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筐苹果约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　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兰体重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鸡蛋约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辆大卡车能装货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1"/>
          <p:cNvSpPr/>
          <p:nvPr/>
        </p:nvSpPr>
        <p:spPr>
          <a:xfrm>
            <a:off x="3244680" y="1579680"/>
            <a:ext cx="11862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3"/>
          <p:cNvSpPr/>
          <p:nvPr/>
        </p:nvSpPr>
        <p:spPr>
          <a:xfrm>
            <a:off x="2793960" y="2303640"/>
            <a:ext cx="114156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文本框 4"/>
          <p:cNvSpPr/>
          <p:nvPr/>
        </p:nvSpPr>
        <p:spPr>
          <a:xfrm>
            <a:off x="3332160" y="2957400"/>
            <a:ext cx="6033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文本框 5"/>
          <p:cNvSpPr/>
          <p:nvPr/>
        </p:nvSpPr>
        <p:spPr>
          <a:xfrm>
            <a:off x="4187880" y="3611520"/>
            <a:ext cx="6033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7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8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09" name="椭圆 15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0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1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7" name="文本框 99"/>
          <p:cNvSpPr/>
          <p:nvPr/>
        </p:nvSpPr>
        <p:spPr>
          <a:xfrm>
            <a:off x="293760" y="1008000"/>
            <a:ext cx="83883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判断对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棉花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铁轻。　　　        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 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大米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。                 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袋盐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克，两袋盐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。　　 （　  ）                   　　　　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鸭梨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克。                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 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9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。　　　　  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1"/>
          <p:cNvSpPr/>
          <p:nvPr/>
        </p:nvSpPr>
        <p:spPr>
          <a:xfrm>
            <a:off x="7296840" y="4295880"/>
            <a:ext cx="357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3"/>
          <p:cNvSpPr/>
          <p:nvPr/>
        </p:nvSpPr>
        <p:spPr>
          <a:xfrm>
            <a:off x="6711840" y="480960"/>
            <a:ext cx="9432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4"/>
          <p:cNvSpPr/>
          <p:nvPr/>
        </p:nvSpPr>
        <p:spPr>
          <a:xfrm>
            <a:off x="7095960" y="3029040"/>
            <a:ext cx="8161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6"/>
          <p:cNvSpPr/>
          <p:nvPr/>
        </p:nvSpPr>
        <p:spPr>
          <a:xfrm>
            <a:off x="7095960" y="1798560"/>
            <a:ext cx="8161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7"/>
          <p:cNvSpPr/>
          <p:nvPr/>
        </p:nvSpPr>
        <p:spPr>
          <a:xfrm>
            <a:off x="7095960" y="2463840"/>
            <a:ext cx="8161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8"/>
          <p:cNvSpPr/>
          <p:nvPr/>
        </p:nvSpPr>
        <p:spPr>
          <a:xfrm>
            <a:off x="7095960" y="3730680"/>
            <a:ext cx="8161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5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27" name="椭圆 15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8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5" name="文本框 99"/>
          <p:cNvSpPr/>
          <p:nvPr/>
        </p:nvSpPr>
        <p:spPr>
          <a:xfrm>
            <a:off x="179280" y="944640"/>
            <a:ext cx="67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是多少？合多少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1"/>
          <p:cNvSpPr/>
          <p:nvPr/>
        </p:nvSpPr>
        <p:spPr>
          <a:xfrm>
            <a:off x="1200240" y="1660680"/>
            <a:ext cx="37591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0=20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3"/>
          <p:cNvSpPr/>
          <p:nvPr/>
        </p:nvSpPr>
        <p:spPr>
          <a:xfrm>
            <a:off x="1200240" y="3049560"/>
            <a:ext cx="31017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0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4"/>
          <p:cNvSpPr/>
          <p:nvPr/>
        </p:nvSpPr>
        <p:spPr>
          <a:xfrm>
            <a:off x="527040" y="4216320"/>
            <a:ext cx="5894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个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0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，合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17640" y="128520"/>
            <a:ext cx="3174840" cy="525600"/>
            <a:chOff x="17640" y="128520"/>
            <a:chExt cx="3174840" cy="525600"/>
          </a:xfrm>
        </p:grpSpPr>
        <p:pic>
          <p:nvPicPr>
            <p:cNvPr id="99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64160" y="128520"/>
              <a:ext cx="3028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17640" y="224280"/>
              <a:ext cx="420480" cy="272160"/>
              <a:chOff x="17640" y="224280"/>
              <a:chExt cx="420480" cy="272160"/>
            </a:xfrm>
          </p:grpSpPr>
          <p:sp>
            <p:nvSpPr>
              <p:cNvPr id="1001" name="椭圆 3"/>
              <p:cNvSpPr/>
              <p:nvPr/>
            </p:nvSpPr>
            <p:spPr>
              <a:xfrm rot="16200000">
                <a:off x="258840" y="387720"/>
                <a:ext cx="979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880" y="35316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58840" y="262080"/>
                <a:ext cx="979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880" y="23904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7640" y="36936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40" y="34092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7640" y="25272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7640" y="22428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3" descr="D:\我的文档-桌面-收藏夹\桌面\图片1副本.jpg"/>
          <p:cNvPicPr/>
          <p:nvPr/>
        </p:nvPicPr>
        <p:blipFill>
          <a:blip r:embed="rId8"/>
          <a:srcRect l="0" t="0" r="1586" b="0"/>
          <a:stretch/>
        </p:blipFill>
        <p:spPr>
          <a:xfrm>
            <a:off x="214200" y="1353960"/>
            <a:ext cx="8858520" cy="166212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4"/>
          <p:cNvSpPr/>
          <p:nvPr/>
        </p:nvSpPr>
        <p:spPr>
          <a:xfrm>
            <a:off x="2357280" y="1782720"/>
            <a:ext cx="1071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千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6786720" y="1782720"/>
            <a:ext cx="1071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千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6"/>
          <p:cNvSpPr/>
          <p:nvPr/>
        </p:nvSpPr>
        <p:spPr>
          <a:xfrm>
            <a:off x="2357280" y="2425680"/>
            <a:ext cx="1071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7786800" y="2425680"/>
            <a:ext cx="1071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2"/>
          <p:cNvGrpSpPr/>
          <p:nvPr/>
        </p:nvGrpSpPr>
        <p:grpSpPr>
          <a:xfrm>
            <a:off x="17640" y="128520"/>
            <a:ext cx="3174840" cy="525600"/>
            <a:chOff x="17640" y="128520"/>
            <a:chExt cx="3174840" cy="525600"/>
          </a:xfrm>
        </p:grpSpPr>
        <p:pic>
          <p:nvPicPr>
            <p:cNvPr id="101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64160" y="128520"/>
              <a:ext cx="3028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17640" y="224280"/>
              <a:ext cx="420480" cy="272160"/>
              <a:chOff x="17640" y="224280"/>
              <a:chExt cx="420480" cy="272160"/>
            </a:xfrm>
          </p:grpSpPr>
          <p:sp>
            <p:nvSpPr>
              <p:cNvPr id="1017" name="椭圆 3"/>
              <p:cNvSpPr/>
              <p:nvPr/>
            </p:nvSpPr>
            <p:spPr>
              <a:xfrm rot="16200000">
                <a:off x="258840" y="387720"/>
                <a:ext cx="979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880" y="35316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29"/>
              <p:cNvSpPr/>
              <p:nvPr/>
            </p:nvSpPr>
            <p:spPr>
              <a:xfrm rot="16200000">
                <a:off x="258840" y="262080"/>
                <a:ext cx="979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880" y="23904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7640" y="36936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40" y="34092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7640" y="25272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7640" y="22428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5" name="八边形 8"/>
          <p:cNvSpPr/>
          <p:nvPr/>
        </p:nvSpPr>
        <p:spPr>
          <a:xfrm>
            <a:off x="290520" y="97776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2"/>
          <p:cNvSpPr/>
          <p:nvPr/>
        </p:nvSpPr>
        <p:spPr>
          <a:xfrm>
            <a:off x="1033560" y="915840"/>
            <a:ext cx="8010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计算较重的或大宗物品的质量，通常用吨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作单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3" descr="D:\我的文档-桌面-收藏夹\桌面\1.tif"/>
          <p:cNvPicPr/>
          <p:nvPr/>
        </p:nvPicPr>
        <p:blipFill>
          <a:blip r:embed="rId8"/>
          <a:stretch/>
        </p:blipFill>
        <p:spPr>
          <a:xfrm>
            <a:off x="1182600" y="2147760"/>
            <a:ext cx="6389640" cy="1746360"/>
          </a:xfrm>
          <a:prstGeom prst="rect">
            <a:avLst/>
          </a:prstGeom>
          <a:ln w="0">
            <a:noFill/>
          </a:ln>
        </p:spPr>
      </p:pic>
      <p:grpSp>
        <p:nvGrpSpPr>
          <p:cNvPr id="1028" name="组合 13"/>
          <p:cNvGrpSpPr/>
          <p:nvPr/>
        </p:nvGrpSpPr>
        <p:grpSpPr>
          <a:xfrm>
            <a:off x="4746600" y="4616280"/>
            <a:ext cx="3968280" cy="1325880"/>
            <a:chOff x="4746600" y="4616280"/>
            <a:chExt cx="3968280" cy="1325880"/>
          </a:xfrm>
        </p:grpSpPr>
        <p:sp>
          <p:nvSpPr>
            <p:cNvPr id="1029" name="AutoShape 27"/>
            <p:cNvSpPr/>
            <p:nvPr/>
          </p:nvSpPr>
          <p:spPr>
            <a:xfrm>
              <a:off x="4746600" y="4616280"/>
              <a:ext cx="2424240" cy="81072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吨有多重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0" name="图片 12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7471800" y="4616280"/>
              <a:ext cx="1243080" cy="1325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组合 2"/>
          <p:cNvGrpSpPr/>
          <p:nvPr/>
        </p:nvGrpSpPr>
        <p:grpSpPr>
          <a:xfrm>
            <a:off x="17640" y="128520"/>
            <a:ext cx="3174840" cy="525600"/>
            <a:chOff x="17640" y="128520"/>
            <a:chExt cx="3174840" cy="525600"/>
          </a:xfrm>
        </p:grpSpPr>
        <p:pic>
          <p:nvPicPr>
            <p:cNvPr id="1032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64160" y="128520"/>
              <a:ext cx="3028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3" name="组合 4"/>
            <p:cNvGrpSpPr/>
            <p:nvPr/>
          </p:nvGrpSpPr>
          <p:grpSpPr>
            <a:xfrm>
              <a:off x="17640" y="224280"/>
              <a:ext cx="420480" cy="272160"/>
              <a:chOff x="17640" y="224280"/>
              <a:chExt cx="420480" cy="272160"/>
            </a:xfrm>
          </p:grpSpPr>
          <p:sp>
            <p:nvSpPr>
              <p:cNvPr id="1034" name="椭圆 3"/>
              <p:cNvSpPr/>
              <p:nvPr/>
            </p:nvSpPr>
            <p:spPr>
              <a:xfrm rot="16200000">
                <a:off x="258840" y="387720"/>
                <a:ext cx="979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880" y="35316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6" name="椭圆 29"/>
              <p:cNvSpPr/>
              <p:nvPr/>
            </p:nvSpPr>
            <p:spPr>
              <a:xfrm rot="16200000">
                <a:off x="258840" y="262080"/>
                <a:ext cx="979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880" y="23904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7640" y="36936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40" y="34092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7640" y="25272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7640" y="22428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2" name="八边形 8"/>
          <p:cNvSpPr/>
          <p:nvPr/>
        </p:nvSpPr>
        <p:spPr>
          <a:xfrm>
            <a:off x="290520" y="97776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18"/>
          <p:cNvGrpSpPr/>
          <p:nvPr/>
        </p:nvGrpSpPr>
        <p:grpSpPr>
          <a:xfrm>
            <a:off x="1940040" y="2274840"/>
            <a:ext cx="4830480" cy="1109880"/>
            <a:chOff x="1940040" y="2274840"/>
            <a:chExt cx="4830480" cy="1109880"/>
          </a:xfrm>
        </p:grpSpPr>
        <p:pic>
          <p:nvPicPr>
            <p:cNvPr id="1044" name="Picture 83" descr="34"/>
            <p:cNvPicPr/>
            <p:nvPr/>
          </p:nvPicPr>
          <p:blipFill>
            <a:blip r:embed="rId8"/>
            <a:stretch/>
          </p:blipFill>
          <p:spPr>
            <a:xfrm>
              <a:off x="5934960" y="2309760"/>
              <a:ext cx="8355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73" descr="34"/>
            <p:cNvPicPr/>
            <p:nvPr/>
          </p:nvPicPr>
          <p:blipFill>
            <a:blip r:embed="rId9"/>
            <a:stretch/>
          </p:blipFill>
          <p:spPr>
            <a:xfrm>
              <a:off x="5504040" y="2309760"/>
              <a:ext cx="8355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74" descr="34"/>
            <p:cNvPicPr/>
            <p:nvPr/>
          </p:nvPicPr>
          <p:blipFill>
            <a:blip r:embed="rId10"/>
            <a:stretch/>
          </p:blipFill>
          <p:spPr>
            <a:xfrm>
              <a:off x="5074560" y="2309760"/>
              <a:ext cx="8355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75" descr="34"/>
            <p:cNvPicPr/>
            <p:nvPr/>
          </p:nvPicPr>
          <p:blipFill>
            <a:blip r:embed="rId11"/>
            <a:stretch/>
          </p:blipFill>
          <p:spPr>
            <a:xfrm>
              <a:off x="4668120" y="2309760"/>
              <a:ext cx="8355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76" descr="34"/>
            <p:cNvPicPr/>
            <p:nvPr/>
          </p:nvPicPr>
          <p:blipFill>
            <a:blip r:embed="rId12"/>
            <a:stretch/>
          </p:blipFill>
          <p:spPr>
            <a:xfrm>
              <a:off x="4202280" y="2274840"/>
              <a:ext cx="8355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77" descr="34"/>
            <p:cNvPicPr/>
            <p:nvPr/>
          </p:nvPicPr>
          <p:blipFill>
            <a:blip r:embed="rId13"/>
            <a:stretch/>
          </p:blipFill>
          <p:spPr>
            <a:xfrm>
              <a:off x="3844440" y="2309760"/>
              <a:ext cx="8355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78" descr="34"/>
            <p:cNvPicPr/>
            <p:nvPr/>
          </p:nvPicPr>
          <p:blipFill>
            <a:blip r:embed="rId14"/>
            <a:stretch/>
          </p:blipFill>
          <p:spPr>
            <a:xfrm>
              <a:off x="3414960" y="2309760"/>
              <a:ext cx="8355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79" descr="34"/>
            <p:cNvPicPr/>
            <p:nvPr/>
          </p:nvPicPr>
          <p:blipFill>
            <a:blip r:embed="rId15"/>
            <a:stretch/>
          </p:blipFill>
          <p:spPr>
            <a:xfrm>
              <a:off x="2984400" y="2320200"/>
              <a:ext cx="8355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81" descr="34"/>
            <p:cNvPicPr/>
            <p:nvPr/>
          </p:nvPicPr>
          <p:blipFill>
            <a:blip r:embed="rId16"/>
            <a:stretch/>
          </p:blipFill>
          <p:spPr>
            <a:xfrm>
              <a:off x="2431440" y="2323800"/>
              <a:ext cx="8355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82" descr="34"/>
            <p:cNvPicPr/>
            <p:nvPr/>
          </p:nvPicPr>
          <p:blipFill>
            <a:blip r:embed="rId17"/>
            <a:stretch/>
          </p:blipFill>
          <p:spPr>
            <a:xfrm>
              <a:off x="1940040" y="2309760"/>
              <a:ext cx="835560" cy="106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4" name="组合 6"/>
          <p:cNvGrpSpPr/>
          <p:nvPr/>
        </p:nvGrpSpPr>
        <p:grpSpPr>
          <a:xfrm>
            <a:off x="1270080" y="957240"/>
            <a:ext cx="3768120" cy="1354320"/>
            <a:chOff x="1270080" y="957240"/>
            <a:chExt cx="3768120" cy="1354320"/>
          </a:xfrm>
        </p:grpSpPr>
        <p:sp>
          <p:nvSpPr>
            <p:cNvPr id="1055" name="AutoShape 27"/>
            <p:cNvSpPr/>
            <p:nvPr/>
          </p:nvSpPr>
          <p:spPr>
            <a:xfrm>
              <a:off x="2230200" y="957240"/>
              <a:ext cx="2808000" cy="496440"/>
            </a:xfrm>
            <a:prstGeom prst="wedgeRoundRectCallout">
              <a:avLst>
                <a:gd name="adj1" fmla="val -54689"/>
                <a:gd name="adj2" fmla="val 557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数一数有几袋大米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6" name="图片 5" descr="AG]4}@PH9UX]GS)L_H5_`K9"/>
            <p:cNvPicPr/>
            <p:nvPr/>
          </p:nvPicPr>
          <p:blipFill>
            <a:blip r:embed="rId18"/>
            <a:stretch/>
          </p:blipFill>
          <p:spPr>
            <a:xfrm>
              <a:off x="1270080" y="957240"/>
              <a:ext cx="671400" cy="135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7" name="组合 14"/>
          <p:cNvGrpSpPr/>
          <p:nvPr/>
        </p:nvGrpSpPr>
        <p:grpSpPr>
          <a:xfrm>
            <a:off x="596880" y="4006800"/>
            <a:ext cx="4241880" cy="1530360"/>
            <a:chOff x="596880" y="4006800"/>
            <a:chExt cx="4241880" cy="1530360"/>
          </a:xfrm>
        </p:grpSpPr>
        <p:sp>
          <p:nvSpPr>
            <p:cNvPr id="1058" name="AutoShape 27"/>
            <p:cNvSpPr/>
            <p:nvPr/>
          </p:nvSpPr>
          <p:spPr>
            <a:xfrm>
              <a:off x="2175120" y="4771080"/>
              <a:ext cx="2663640" cy="504720"/>
            </a:xfrm>
            <a:prstGeom prst="wedgeRoundRectCallout">
              <a:avLst>
                <a:gd name="adj1" fmla="val -61083"/>
                <a:gd name="adj2" fmla="val -342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吨就是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1000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千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图片 7" descr="]@P`{@U$K{A7A$9804YYMFT"/>
            <p:cNvPicPr/>
            <p:nvPr/>
          </p:nvPicPr>
          <p:blipFill>
            <a:blip r:embed="rId19"/>
            <a:stretch/>
          </p:blipFill>
          <p:spPr>
            <a:xfrm>
              <a:off x="596880" y="4006800"/>
              <a:ext cx="1204200" cy="15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组合 11"/>
          <p:cNvGrpSpPr/>
          <p:nvPr/>
        </p:nvGrpSpPr>
        <p:grpSpPr>
          <a:xfrm>
            <a:off x="3711600" y="2965320"/>
            <a:ext cx="5133600" cy="1805040"/>
            <a:chOff x="3711600" y="2965320"/>
            <a:chExt cx="5133600" cy="1805040"/>
          </a:xfrm>
        </p:grpSpPr>
        <p:sp>
          <p:nvSpPr>
            <p:cNvPr id="1061" name="AutoShape 27"/>
            <p:cNvSpPr/>
            <p:nvPr/>
          </p:nvSpPr>
          <p:spPr>
            <a:xfrm>
              <a:off x="3711600" y="3620880"/>
              <a:ext cx="3600000" cy="793440"/>
            </a:xfrm>
            <a:prstGeom prst="wedgeRoundRectCallout">
              <a:avLst>
                <a:gd name="adj1" fmla="val 56481"/>
                <a:gd name="adj2" fmla="val -5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00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克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000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2" name="图片 9" descr="_4`F[E$PX4I}_~SSZVJ7V4J"/>
            <p:cNvPicPr/>
            <p:nvPr/>
          </p:nvPicPr>
          <p:blipFill>
            <a:blip r:embed="rId20"/>
            <a:stretch/>
          </p:blipFill>
          <p:spPr>
            <a:xfrm>
              <a:off x="7654320" y="2965320"/>
              <a:ext cx="119088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组合 2"/>
          <p:cNvGrpSpPr/>
          <p:nvPr/>
        </p:nvGrpSpPr>
        <p:grpSpPr>
          <a:xfrm>
            <a:off x="17640" y="128520"/>
            <a:ext cx="3174840" cy="525600"/>
            <a:chOff x="17640" y="128520"/>
            <a:chExt cx="3174840" cy="525600"/>
          </a:xfrm>
        </p:grpSpPr>
        <p:pic>
          <p:nvPicPr>
            <p:cNvPr id="1064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64160" y="128520"/>
              <a:ext cx="3028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5" name="组合 4"/>
            <p:cNvGrpSpPr/>
            <p:nvPr/>
          </p:nvGrpSpPr>
          <p:grpSpPr>
            <a:xfrm>
              <a:off x="17640" y="224280"/>
              <a:ext cx="420480" cy="272160"/>
              <a:chOff x="17640" y="224280"/>
              <a:chExt cx="420480" cy="272160"/>
            </a:xfrm>
          </p:grpSpPr>
          <p:sp>
            <p:nvSpPr>
              <p:cNvPr id="1066" name="椭圆 3"/>
              <p:cNvSpPr/>
              <p:nvPr/>
            </p:nvSpPr>
            <p:spPr>
              <a:xfrm rot="16200000">
                <a:off x="258840" y="387720"/>
                <a:ext cx="979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7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880" y="35316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椭圆 29"/>
              <p:cNvSpPr/>
              <p:nvPr/>
            </p:nvSpPr>
            <p:spPr>
              <a:xfrm rot="16200000">
                <a:off x="258840" y="262080"/>
                <a:ext cx="979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880" y="23904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7640" y="36936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40" y="34092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7640" y="25272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7640" y="22428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4" name="八边形 8"/>
          <p:cNvSpPr/>
          <p:nvPr/>
        </p:nvSpPr>
        <p:spPr>
          <a:xfrm>
            <a:off x="290520" y="97776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2" descr="D:\我的文档-桌面-收藏夹\桌面\图片3.png"/>
          <p:cNvPicPr/>
          <p:nvPr/>
        </p:nvPicPr>
        <p:blipFill>
          <a:blip r:embed="rId8"/>
          <a:stretch/>
        </p:blipFill>
        <p:spPr>
          <a:xfrm>
            <a:off x="1785960" y="1143000"/>
            <a:ext cx="4786200" cy="351468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4"/>
          <p:cNvSpPr/>
          <p:nvPr/>
        </p:nvSpPr>
        <p:spPr>
          <a:xfrm>
            <a:off x="961920" y="915840"/>
            <a:ext cx="82090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名同学的体重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这样重的同学大约重多少千克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这样重的同学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组合 5"/>
          <p:cNvGrpSpPr/>
          <p:nvPr/>
        </p:nvGrpSpPr>
        <p:grpSpPr>
          <a:xfrm>
            <a:off x="2370240" y="4805280"/>
            <a:ext cx="5607000" cy="1355760"/>
            <a:chOff x="2370240" y="4805280"/>
            <a:chExt cx="5607000" cy="1355760"/>
          </a:xfrm>
        </p:grpSpPr>
        <p:sp>
          <p:nvSpPr>
            <p:cNvPr id="1078" name="AutoShape 27"/>
            <p:cNvSpPr/>
            <p:nvPr/>
          </p:nvSpPr>
          <p:spPr>
            <a:xfrm>
              <a:off x="2370240" y="5072400"/>
              <a:ext cx="3843720" cy="82152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0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名这样重的同学约重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吨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图片 7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6704280" y="4805280"/>
              <a:ext cx="1272960" cy="1355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组合 2"/>
          <p:cNvGrpSpPr/>
          <p:nvPr/>
        </p:nvGrpSpPr>
        <p:grpSpPr>
          <a:xfrm>
            <a:off x="17640" y="128520"/>
            <a:ext cx="3174840" cy="525600"/>
            <a:chOff x="17640" y="128520"/>
            <a:chExt cx="3174840" cy="525600"/>
          </a:xfrm>
        </p:grpSpPr>
        <p:pic>
          <p:nvPicPr>
            <p:cNvPr id="108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64160" y="128520"/>
              <a:ext cx="3028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2" name="组合 4"/>
            <p:cNvGrpSpPr/>
            <p:nvPr/>
          </p:nvGrpSpPr>
          <p:grpSpPr>
            <a:xfrm>
              <a:off x="17640" y="224280"/>
              <a:ext cx="420480" cy="272160"/>
              <a:chOff x="17640" y="224280"/>
              <a:chExt cx="420480" cy="272160"/>
            </a:xfrm>
          </p:grpSpPr>
          <p:sp>
            <p:nvSpPr>
              <p:cNvPr id="1083" name="椭圆 3"/>
              <p:cNvSpPr/>
              <p:nvPr/>
            </p:nvSpPr>
            <p:spPr>
              <a:xfrm rot="16200000">
                <a:off x="258840" y="387720"/>
                <a:ext cx="979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880" y="35316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椭圆 29"/>
              <p:cNvSpPr/>
              <p:nvPr/>
            </p:nvSpPr>
            <p:spPr>
              <a:xfrm rot="16200000">
                <a:off x="258840" y="262080"/>
                <a:ext cx="979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880" y="23904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7640" y="36936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40" y="34092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7640" y="25272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7640" y="224280"/>
                <a:ext cx="347400" cy="10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1" name="TextBox 2"/>
          <p:cNvSpPr/>
          <p:nvPr/>
        </p:nvSpPr>
        <p:spPr>
          <a:xfrm>
            <a:off x="1243080" y="977760"/>
            <a:ext cx="490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3"/>
          <p:cNvSpPr/>
          <p:nvPr/>
        </p:nvSpPr>
        <p:spPr>
          <a:xfrm>
            <a:off x="365040" y="1765440"/>
            <a:ext cx="84996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想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吨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吨是（   ）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4"/>
          <p:cNvSpPr/>
          <p:nvPr/>
        </p:nvSpPr>
        <p:spPr>
          <a:xfrm>
            <a:off x="5270400" y="19717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5"/>
          <p:cNvSpPr/>
          <p:nvPr/>
        </p:nvSpPr>
        <p:spPr>
          <a:xfrm>
            <a:off x="3403440" y="1179360"/>
            <a:ext cx="1101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"/>
          <p:cNvSpPr/>
          <p:nvPr/>
        </p:nvSpPr>
        <p:spPr>
          <a:xfrm>
            <a:off x="2124000" y="2757600"/>
            <a:ext cx="4894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7"/>
          <p:cNvSpPr/>
          <p:nvPr/>
        </p:nvSpPr>
        <p:spPr>
          <a:xfrm>
            <a:off x="434880" y="3841920"/>
            <a:ext cx="8786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想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吨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里面有（   ）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8"/>
          <p:cNvSpPr/>
          <p:nvPr/>
        </p:nvSpPr>
        <p:spPr>
          <a:xfrm>
            <a:off x="7018200" y="38419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9"/>
          <p:cNvSpPr/>
          <p:nvPr/>
        </p:nvSpPr>
        <p:spPr>
          <a:xfrm>
            <a:off x="4224240" y="28814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八边形 18"/>
          <p:cNvSpPr/>
          <p:nvPr/>
        </p:nvSpPr>
        <p:spPr>
          <a:xfrm>
            <a:off x="290520" y="97776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文本框 1"/>
          <p:cNvSpPr/>
          <p:nvPr/>
        </p:nvSpPr>
        <p:spPr>
          <a:xfrm>
            <a:off x="2401920" y="3316320"/>
            <a:ext cx="41133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质量单位吨和千克的换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3"/>
          <p:cNvSpPr/>
          <p:nvPr/>
        </p:nvSpPr>
        <p:spPr>
          <a:xfrm>
            <a:off x="2328840" y="1079640"/>
            <a:ext cx="35733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认识质量单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吨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4"/>
          <p:cNvSpPr/>
          <p:nvPr/>
        </p:nvSpPr>
        <p:spPr>
          <a:xfrm>
            <a:off x="628560" y="1690560"/>
            <a:ext cx="8093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量大象和鲸的体重，以及汽车、轮船等所载的较重的或大宗物品的质量，常用吨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5"/>
          <p:cNvSpPr/>
          <p:nvPr/>
        </p:nvSpPr>
        <p:spPr>
          <a:xfrm>
            <a:off x="604800" y="4122720"/>
            <a:ext cx="81392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吨和千克之间的换算方法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吨换算成千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在吨数的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末尾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添上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千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克换算成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在千克数的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末尾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去掉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TextBox 4"/>
          <p:cNvSpPr/>
          <p:nvPr/>
        </p:nvSpPr>
        <p:spPr>
          <a:xfrm>
            <a:off x="149400" y="1089000"/>
            <a:ext cx="8335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一说，日常生活中什么情况下用吨作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2" descr="D:\我的文档-桌面-收藏夹\桌面\u=2078642172,3068504017&amp;fm=15&amp;gp=0.gif"/>
          <p:cNvPicPr/>
          <p:nvPr/>
        </p:nvPicPr>
        <p:blipFill>
          <a:blip r:embed="rId1"/>
          <a:stretch/>
        </p:blipFill>
        <p:spPr>
          <a:xfrm>
            <a:off x="657360" y="2192400"/>
            <a:ext cx="1596960" cy="1868400"/>
          </a:xfrm>
          <a:prstGeom prst="rect">
            <a:avLst/>
          </a:prstGeom>
          <a:ln w="0">
            <a:noFill/>
          </a:ln>
        </p:spPr>
      </p:pic>
      <p:sp>
        <p:nvSpPr>
          <p:cNvPr id="1106" name="AutoShape 27"/>
          <p:cNvSpPr/>
          <p:nvPr/>
        </p:nvSpPr>
        <p:spPr>
          <a:xfrm>
            <a:off x="2181240" y="2108160"/>
            <a:ext cx="3267000" cy="847800"/>
          </a:xfrm>
          <a:prstGeom prst="wedgeRoundRectCallout">
            <a:avLst>
              <a:gd name="adj1" fmla="val -56972"/>
              <a:gd name="adj2" fmla="val 3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我的体重用吨作单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Picture 3" descr="D:\我的文档-桌面-收藏夹\桌面\1373761_113438002_2副本.png"/>
          <p:cNvPicPr/>
          <p:nvPr/>
        </p:nvPicPr>
        <p:blipFill>
          <a:blip r:embed="rId2"/>
          <a:stretch/>
        </p:blipFill>
        <p:spPr>
          <a:xfrm>
            <a:off x="5883120" y="1598760"/>
            <a:ext cx="2905200" cy="1854000"/>
          </a:xfrm>
          <a:prstGeom prst="rect">
            <a:avLst/>
          </a:prstGeom>
          <a:ln w="0">
            <a:noFill/>
          </a:ln>
        </p:spPr>
      </p:pic>
      <p:sp>
        <p:nvSpPr>
          <p:cNvPr id="1108" name="AutoShape 27"/>
          <p:cNvSpPr/>
          <p:nvPr/>
        </p:nvSpPr>
        <p:spPr>
          <a:xfrm>
            <a:off x="3198960" y="3211560"/>
            <a:ext cx="3628800" cy="849240"/>
          </a:xfrm>
          <a:prstGeom prst="wedgeRoundRectCallout">
            <a:avLst>
              <a:gd name="adj1" fmla="val 63791"/>
              <a:gd name="adj2" fmla="val -5542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我的载质量用吨作单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组合 2"/>
          <p:cNvGrpSpPr/>
          <p:nvPr/>
        </p:nvGrpSpPr>
        <p:grpSpPr>
          <a:xfrm>
            <a:off x="-30240" y="115920"/>
            <a:ext cx="3245040" cy="525600"/>
            <a:chOff x="-30240" y="115920"/>
            <a:chExt cx="3245040" cy="525600"/>
          </a:xfrm>
        </p:grpSpPr>
        <p:pic>
          <p:nvPicPr>
            <p:cNvPr id="1110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20240" y="1159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1" name="组合 4"/>
            <p:cNvGrpSpPr/>
            <p:nvPr/>
          </p:nvGrpSpPr>
          <p:grpSpPr>
            <a:xfrm>
              <a:off x="-30240" y="211680"/>
              <a:ext cx="430200" cy="271800"/>
              <a:chOff x="-30240" y="211680"/>
              <a:chExt cx="430200" cy="271800"/>
            </a:xfrm>
          </p:grpSpPr>
          <p:sp>
            <p:nvSpPr>
              <p:cNvPr id="1112" name="椭圆 4"/>
              <p:cNvSpPr/>
              <p:nvPr/>
            </p:nvSpPr>
            <p:spPr>
              <a:xfrm rot="16200000">
                <a:off x="212760" y="3744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3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87920" y="3380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椭圆 29"/>
              <p:cNvSpPr/>
              <p:nvPr/>
            </p:nvSpPr>
            <p:spPr>
              <a:xfrm rot="16200000">
                <a:off x="212760" y="2484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5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187920" y="2260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-30240" y="3542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-30240" y="3261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-30240" y="2394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-30240" y="2116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Box 9"/>
          <p:cNvSpPr/>
          <p:nvPr/>
        </p:nvSpPr>
        <p:spPr>
          <a:xfrm>
            <a:off x="-30240" y="927000"/>
            <a:ext cx="8929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（   ）里填上适当的数，使每种东西的总重恰好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组合 39"/>
          <p:cNvGrpSpPr/>
          <p:nvPr/>
        </p:nvGrpSpPr>
        <p:grpSpPr>
          <a:xfrm>
            <a:off x="460440" y="2198520"/>
            <a:ext cx="8215200" cy="2357640"/>
            <a:chOff x="460440" y="2198520"/>
            <a:chExt cx="8215200" cy="2357640"/>
          </a:xfrm>
        </p:grpSpPr>
        <p:sp>
          <p:nvSpPr>
            <p:cNvPr id="1122" name="直接连接符 35"/>
            <p:cNvSpPr/>
            <p:nvPr/>
          </p:nvSpPr>
          <p:spPr>
            <a:xfrm flipH="1" flipV="1">
              <a:off x="4746240" y="3484080"/>
              <a:ext cx="857160" cy="5000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直接连接符 29"/>
            <p:cNvSpPr/>
            <p:nvPr/>
          </p:nvSpPr>
          <p:spPr>
            <a:xfrm flipH="1">
              <a:off x="4746240" y="2769840"/>
              <a:ext cx="857160" cy="4284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圆角矩形 33"/>
            <p:cNvSpPr/>
            <p:nvPr/>
          </p:nvSpPr>
          <p:spPr>
            <a:xfrm>
              <a:off x="5603760" y="3413160"/>
              <a:ext cx="307188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圆角矩形 32"/>
            <p:cNvSpPr/>
            <p:nvPr/>
          </p:nvSpPr>
          <p:spPr>
            <a:xfrm>
              <a:off x="5603760" y="2198520"/>
              <a:ext cx="307188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直接连接符 26"/>
            <p:cNvSpPr/>
            <p:nvPr/>
          </p:nvSpPr>
          <p:spPr>
            <a:xfrm flipV="1">
              <a:off x="3532320" y="3412800"/>
              <a:ext cx="1071360" cy="5713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圆角矩形 19"/>
            <p:cNvSpPr/>
            <p:nvPr/>
          </p:nvSpPr>
          <p:spPr>
            <a:xfrm>
              <a:off x="460440" y="3413160"/>
              <a:ext cx="307188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圆角矩形 18"/>
            <p:cNvSpPr/>
            <p:nvPr/>
          </p:nvSpPr>
          <p:spPr>
            <a:xfrm>
              <a:off x="460440" y="2198520"/>
              <a:ext cx="307188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4" descr="D:\我的文档-桌面-收藏夹\桌面\u=3028168562,2897691054&amp;fm=21&amp;gp=0.jpg"/>
            <p:cNvPicPr/>
            <p:nvPr/>
          </p:nvPicPr>
          <p:blipFill>
            <a:blip r:embed="rId1"/>
            <a:stretch/>
          </p:blipFill>
          <p:spPr>
            <a:xfrm>
              <a:off x="603000" y="2341080"/>
              <a:ext cx="10429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" descr="D:\我的文档-桌面-收藏夹\桌面\Redocn_2012072302150070副本.png"/>
            <p:cNvPicPr/>
            <p:nvPr/>
          </p:nvPicPr>
          <p:blipFill>
            <a:blip r:embed="rId2"/>
            <a:stretch/>
          </p:blipFill>
          <p:spPr>
            <a:xfrm>
              <a:off x="674640" y="3595680"/>
              <a:ext cx="82656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Picture 6" descr="D:\我的文档-桌面-收藏夹\桌面\5646061_155152308116_2.jpg"/>
            <p:cNvPicPr/>
            <p:nvPr/>
          </p:nvPicPr>
          <p:blipFill>
            <a:blip r:embed="rId3"/>
            <a:stretch/>
          </p:blipFill>
          <p:spPr>
            <a:xfrm>
              <a:off x="7175520" y="3577320"/>
              <a:ext cx="1425960" cy="8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2" name="TextBox 14"/>
            <p:cNvSpPr/>
            <p:nvPr/>
          </p:nvSpPr>
          <p:spPr>
            <a:xfrm>
              <a:off x="1460520" y="2341080"/>
              <a:ext cx="20001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0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   ）头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5"/>
            <p:cNvSpPr/>
            <p:nvPr/>
          </p:nvSpPr>
          <p:spPr>
            <a:xfrm>
              <a:off x="1460520" y="3556080"/>
              <a:ext cx="20001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   ）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6"/>
            <p:cNvSpPr/>
            <p:nvPr/>
          </p:nvSpPr>
          <p:spPr>
            <a:xfrm>
              <a:off x="5461200" y="2341080"/>
              <a:ext cx="20001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0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   ）桶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7"/>
            <p:cNvSpPr/>
            <p:nvPr/>
          </p:nvSpPr>
          <p:spPr>
            <a:xfrm>
              <a:off x="5461200" y="3556080"/>
              <a:ext cx="20001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5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   ）只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直接连接符 22"/>
            <p:cNvSpPr/>
            <p:nvPr/>
          </p:nvSpPr>
          <p:spPr>
            <a:xfrm>
              <a:off x="3532320" y="2769840"/>
              <a:ext cx="1143000" cy="642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椭圆 20"/>
            <p:cNvSpPr/>
            <p:nvPr/>
          </p:nvSpPr>
          <p:spPr>
            <a:xfrm>
              <a:off x="4103640" y="284148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吨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Box 38"/>
          <p:cNvSpPr/>
          <p:nvPr/>
        </p:nvSpPr>
        <p:spPr>
          <a:xfrm>
            <a:off x="2006640" y="282096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40"/>
          <p:cNvSpPr/>
          <p:nvPr/>
        </p:nvSpPr>
        <p:spPr>
          <a:xfrm>
            <a:off x="5972040" y="277164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41"/>
          <p:cNvSpPr/>
          <p:nvPr/>
        </p:nvSpPr>
        <p:spPr>
          <a:xfrm>
            <a:off x="6043680" y="39862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42"/>
          <p:cNvSpPr/>
          <p:nvPr/>
        </p:nvSpPr>
        <p:spPr>
          <a:xfrm>
            <a:off x="2008080" y="40356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2"/>
          <p:cNvGrpSpPr/>
          <p:nvPr/>
        </p:nvGrpSpPr>
        <p:grpSpPr>
          <a:xfrm>
            <a:off x="-30240" y="115920"/>
            <a:ext cx="3245040" cy="525600"/>
            <a:chOff x="-30240" y="115920"/>
            <a:chExt cx="3245040" cy="525600"/>
          </a:xfrm>
        </p:grpSpPr>
        <p:pic>
          <p:nvPicPr>
            <p:cNvPr id="1143" name="圆角矩形 5" descr=""/>
            <p:cNvPicPr/>
            <p:nvPr/>
          </p:nvPicPr>
          <p:blipFill>
            <a:blip r:embed="rId4"/>
            <a:stretch/>
          </p:blipFill>
          <p:spPr>
            <a:xfrm>
              <a:off x="120240" y="1159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4" name="组合 4"/>
            <p:cNvGrpSpPr/>
            <p:nvPr/>
          </p:nvGrpSpPr>
          <p:grpSpPr>
            <a:xfrm>
              <a:off x="-30240" y="211680"/>
              <a:ext cx="430200" cy="271800"/>
              <a:chOff x="-30240" y="211680"/>
              <a:chExt cx="430200" cy="271800"/>
            </a:xfrm>
          </p:grpSpPr>
          <p:sp>
            <p:nvSpPr>
              <p:cNvPr id="1145" name="椭圆 4"/>
              <p:cNvSpPr/>
              <p:nvPr/>
            </p:nvSpPr>
            <p:spPr>
              <a:xfrm rot="16200000">
                <a:off x="212760" y="3744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6" name="椭圆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87920" y="3380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7" name="椭圆 29"/>
              <p:cNvSpPr/>
              <p:nvPr/>
            </p:nvSpPr>
            <p:spPr>
              <a:xfrm rot="16200000">
                <a:off x="212760" y="2484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8" name="椭圆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920" y="2260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31" descr=""/>
              <p:cNvPicPr/>
              <p:nvPr/>
            </p:nvPicPr>
            <p:blipFill>
              <a:blip r:embed="rId7"/>
              <a:stretch/>
            </p:blipFill>
            <p:spPr>
              <a:xfrm>
                <a:off x="-30240" y="3542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圆角矩形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-30240" y="3261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-30240" y="2394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圆角矩形 34" descr=""/>
              <p:cNvPicPr/>
              <p:nvPr/>
            </p:nvPicPr>
            <p:blipFill>
              <a:blip r:embed="rId10"/>
              <a:stretch/>
            </p:blipFill>
            <p:spPr>
              <a:xfrm>
                <a:off x="-30240" y="2116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53" name="图片 2" descr=""/>
          <p:cNvPicPr/>
          <p:nvPr/>
        </p:nvPicPr>
        <p:blipFill>
          <a:blip r:embed="rId11"/>
          <a:stretch/>
        </p:blipFill>
        <p:spPr>
          <a:xfrm>
            <a:off x="7640640" y="2370240"/>
            <a:ext cx="663480" cy="8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30:28Z</dcterms:created>
  <dc:creator/>
  <dc:description/>
  <dc:language>en-US</dc:language>
  <cp:lastModifiedBy>万润仪器贸易公司</cp:lastModifiedBy>
  <dcterms:modified xsi:type="dcterms:W3CDTF">2020-08-21T01:17:4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